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1.jpeg" ContentType="image/jpeg"/>
  <Override PartName="/ppt/media/image16.png" ContentType="image/png"/>
  <Override PartName="/ppt/media/image18.jpeg" ContentType="image/jpe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11.png" ContentType="image/png"/>
  <Override PartName="/ppt/media/image19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5D96B-35FE-43FB-A348-D1E8594A6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5E7EA-0612-43B2-B995-1F3E54371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796AA-C6D3-4007-BC5C-A08419400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FD801-0A9B-4B43-8FBF-79F7924FB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51F45-FD10-4825-B427-D4CF34DA3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4792F-04EB-4F3A-AD3A-1104C3079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D1490-4AA1-4B6D-9647-7BFE2E0B1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06505-CADA-4026-80A8-05960E112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B86B3-B9C1-4349-B45E-6FA00384C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F1889-EFD5-4602-9DED-F25669C1D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BD52D-CE03-4F94-9BCC-6320028EA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F1B92-CE57-43F6-9F0C-D0D841DB1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268A5-7F6E-47FF-9491-5AB8E01C3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29902-CF6A-411D-97FC-B9F688712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4F784-3B64-4042-85C3-9601C59FF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DCF29-2002-4625-AC0E-6F444E4D8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44FF3-7E9D-4815-987E-106F9D8A8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95DF9-3B05-4731-9396-56DA103AE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7D37B-BE06-497F-A5DB-7E672EDE2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7F366-FE71-4BA8-B715-15C8735A1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15D6C-BE34-4DBE-89C9-E167924EE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0DCD1-43A0-43B5-8103-4DB67802B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2CDF6-4440-4BDB-B0B5-65CD7DA47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63A85-6F09-4BBD-B4A1-F07E370B6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E10D1-0A7C-4137-8D6B-BDBD2E183825}" type="slidenum">
              <a:rPr b="1" lang="en-US" sz="26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99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538BA-9177-4D5D-9BCD-90488209EB21}" type="slidenum">
              <a:rPr b="1" lang="en-US" sz="26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ffffff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8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ff"/>
                </a:solidFill>
                <a:latin typeface="Arial"/>
              </a:rPr>
              <a:t>LAS COMIDA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514600" y="2057400"/>
            <a:ext cx="4648320" cy="6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ff"/>
                </a:solidFill>
                <a:latin typeface="Arial"/>
              </a:rPr>
              <a:t>POR SUZANNA RACHIM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7086600" y="457200"/>
            <a:ext cx="1305000" cy="13050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304920" y="3657600"/>
            <a:ext cx="3200400" cy="2128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12913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9900ff"/>
                </a:solidFill>
                <a:uFillTx/>
                <a:latin typeface="Arial Black"/>
              </a:rPr>
              <a:t>PARA EL DESAYUNO ME GUSTA COMER: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914400" y="2362320"/>
            <a:ext cx="2033640" cy="18525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3200400" y="2362320"/>
            <a:ext cx="2224080" cy="18288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4952880" y="4495680"/>
            <a:ext cx="1684440" cy="20574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4"/>
          <a:stretch/>
        </p:blipFill>
        <p:spPr>
          <a:xfrm>
            <a:off x="5867280" y="2438280"/>
            <a:ext cx="2438640" cy="17938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5"/>
          <a:stretch/>
        </p:blipFill>
        <p:spPr>
          <a:xfrm>
            <a:off x="1600200" y="4648320"/>
            <a:ext cx="2438280" cy="190476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5486400" y="6491160"/>
            <a:ext cx="2514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831680" y="6490440"/>
            <a:ext cx="184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apas a la casa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105520" y="6490440"/>
            <a:ext cx="16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vaso de agua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841680" y="4114440"/>
            <a:ext cx="233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tortilla con queso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cheddar y espinaca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279960" y="4266360"/>
            <a:ext cx="21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tostadas de canela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480000" y="4266360"/>
            <a:ext cx="123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cantalup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2913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9900ff"/>
                </a:solidFill>
                <a:uFillTx/>
                <a:latin typeface="Arial Black"/>
              </a:rPr>
              <a:t>PARA EL ALMUERZO ME GUSTA COMER: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838080" y="2362320"/>
            <a:ext cx="2057400" cy="19047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3200400" y="2362320"/>
            <a:ext cx="2300400" cy="190476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5791320" y="2362320"/>
            <a:ext cx="2342880" cy="19047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2438280" y="4648320"/>
            <a:ext cx="2286000" cy="17128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5"/>
          <a:stretch/>
        </p:blipFill>
        <p:spPr>
          <a:xfrm>
            <a:off x="5486400" y="4648320"/>
            <a:ext cx="1219320" cy="167616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5489280" y="6323760"/>
            <a:ext cx="115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ca-col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126240" y="6323760"/>
            <a:ext cx="7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sush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280680" y="4266360"/>
            <a:ext cx="190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ollo a la parrilla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917640" y="4342680"/>
            <a:ext cx="179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ensalada césa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251040" y="4266360"/>
            <a:ext cx="118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manzana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12913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9900ff"/>
                </a:solidFill>
                <a:uFillTx/>
                <a:latin typeface="Arial Black"/>
              </a:rPr>
              <a:t>PARA LA CENA ME GUSTA COMER: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914400" y="2514600"/>
            <a:ext cx="2133720" cy="16002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3276720" y="2514600"/>
            <a:ext cx="2523960" cy="16002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6172200" y="2514600"/>
            <a:ext cx="2209680" cy="16002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1752480" y="4495680"/>
            <a:ext cx="2057400" cy="19051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5638680" y="4419720"/>
            <a:ext cx="1236960" cy="213336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1450440" y="4114080"/>
            <a:ext cx="11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langosta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039920" y="4114080"/>
            <a:ext cx="74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maíz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631920" y="4114080"/>
            <a:ext cx="122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calabací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832760" y="6491160"/>
            <a:ext cx="177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ensalada Cés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410080" y="649116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anta naranj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2913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900ff"/>
                </a:solidFill>
                <a:latin typeface="Arial"/>
              </a:rPr>
              <a:t>PARA EL POSTRE ME GUSTA COMMER: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838080" y="2286000"/>
            <a:ext cx="2210040" cy="186516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5105520" y="4724280"/>
            <a:ext cx="2133360" cy="18288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1371600" y="4724280"/>
            <a:ext cx="2133720" cy="182880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4"/>
          <a:stretch/>
        </p:blipFill>
        <p:spPr>
          <a:xfrm>
            <a:off x="7467480" y="2438280"/>
            <a:ext cx="1408320" cy="221004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5"/>
          <a:stretch/>
        </p:blipFill>
        <p:spPr>
          <a:xfrm>
            <a:off x="3276720" y="2590920"/>
            <a:ext cx="2619360" cy="174312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613440" y="4114440"/>
            <a:ext cx="299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cupcake de vainill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con cobertura de chocola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375560" y="6490440"/>
            <a:ext cx="200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chocolate calien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736440" y="4266720"/>
            <a:ext cx="217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fresas cubiertas d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chocola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394040" y="4647600"/>
            <a:ext cx="15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fresas c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crema batid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716440" y="6490440"/>
            <a:ext cx="7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frut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3T15:10:57Z</dcterms:created>
  <dc:creator>rachimisuz</dc:creator>
  <dc:description/>
  <dc:language>en-US</dc:language>
  <cp:lastModifiedBy>rachimisuz</cp:lastModifiedBy>
  <dcterms:modified xsi:type="dcterms:W3CDTF">2011-04-14T14:59:17Z</dcterms:modified>
  <cp:revision>9</cp:revision>
  <dc:subject/>
  <dc:title>LAS COMIDAS</dc:title>
</cp:coreProperties>
</file>